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4.png" ContentType="image/png"/>
  <Override PartName="/ppt/media/image12.wmf" ContentType="image/x-wmf"/>
  <Override PartName="/ppt/media/image6.jpeg" ContentType="image/jpeg"/>
  <Override PartName="/ppt/media/image10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17.wmf" ContentType="image/x-wmf"/>
  <Override PartName="/ppt/media/image9.png" ContentType="image/png"/>
  <Override PartName="/ppt/media/image26.png" ContentType="image/png"/>
  <Override PartName="/ppt/media/image3.png" ContentType="image/png"/>
  <Override PartName="/ppt/media/image11.wmf" ContentType="image/x-wmf"/>
  <Override PartName="/ppt/media/image30.png" ContentType="image/png"/>
  <Override PartName="/ppt/media/image5.png" ContentType="image/png"/>
  <Override PartName="/ppt/media/image28.png" ContentType="image/png"/>
  <Override PartName="/ppt/media/image2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9.png" ContentType="image/png"/>
  <Override PartName="/ppt/media/image21.png" ContentType="image/png"/>
  <Override PartName="/ppt/media/image18.wmf" ContentType="image/x-wmf"/>
  <Override PartName="/ppt/media/image20.png" ContentType="image/png"/>
  <Override PartName="/ppt/media/image22.png" ContentType="image/png"/>
  <Override PartName="/ppt/media/image23.png" ContentType="image/png"/>
  <Override PartName="/ppt/media/image2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356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844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356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844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0CEA89-EB26-44D3-810F-21E3D076A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C9334C-909C-47A5-A77D-99A2C64B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0CEB9E-2AFC-44F1-B07B-85AB5C385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415B87-B0CE-4E6A-AFDD-568EB1EED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FD1C2B-9C50-4B19-B39F-58CBF2888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280"/>
            <a:ext cx="8636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1415B2-258F-4C7F-BC3B-6D5F7E478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B589E5-4DC5-43A3-96A3-85A2E504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5B3EDE-8F8D-486B-B91D-A6739906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2C311F-D117-4E46-AA17-DC9BDF9F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4E363C-5D3A-45C8-8336-CFFA587D3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9AE316-A63B-4EEB-AA57-08D82AACB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356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844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356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844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7D35BB-DC2E-45B3-AB5B-75EE07230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280"/>
            <a:ext cx="8636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320" y="634356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cc99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E32236D-E3C1-4693-8CB7-19BAF32D9DCB}" type="slidenum">
              <a:rPr b="0" lang="en-US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46160" y="6357960"/>
            <a:ext cx="19047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161280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3"/>
          </p:nvPr>
        </p:nvSpPr>
        <p:spPr>
          <a:xfrm>
            <a:off x="3358800" y="634356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4"/>
          </p:nvPr>
        </p:nvSpPr>
        <p:spPr>
          <a:xfrm>
            <a:off x="6019560" y="634356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125280" y="6357960"/>
            <a:ext cx="19036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A540FD6-F0BC-48A6-8B45-5FC1570DE23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2160360" y="5056200"/>
            <a:ext cx="618948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67320" bIns="46080" anchor="t">
            <a:noAutofit/>
          </a:bodyPr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Item IV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Zoran Bohaček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18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. VI</a:t>
            </a: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2009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82720" y="1341360"/>
            <a:ext cx="7378560" cy="15382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-324360" y="3239640"/>
            <a:ext cx="62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972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Croatia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nks' P&amp;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380360" y="395280"/>
            <a:ext cx="1511280" cy="1260360"/>
          </a:xfrm>
          <a:prstGeom prst="wedgeEllipseCallout">
            <a:avLst>
              <a:gd name="adj1" fmla="val -14532"/>
              <a:gd name="adj2" fmla="val 64962"/>
            </a:avLst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OO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15800" y="1866960"/>
            <a:ext cx="8223480" cy="46130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60000" y="190080"/>
            <a:ext cx="86374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fficiency, ROA,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O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0" y="1008000"/>
            <a:ext cx="1619280" cy="1260360"/>
          </a:xfrm>
          <a:prstGeom prst="wedgeEllipseCallout">
            <a:avLst>
              <a:gd name="adj1" fmla="val -32449"/>
              <a:gd name="adj2" fmla="val 64962"/>
            </a:avLst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OO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35080" y="2519280"/>
            <a:ext cx="4444920" cy="27194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780000" y="2411280"/>
            <a:ext cx="4956120" cy="31687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ond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502000" y="0"/>
            <a:ext cx="577836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82520" y="3884760"/>
            <a:ext cx="8637480" cy="18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tock &amp;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oney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arke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0360" y="1979640"/>
            <a:ext cx="1619280" cy="1260360"/>
          </a:xfrm>
          <a:prstGeom prst="wedgeEllipseCallout">
            <a:avLst>
              <a:gd name="adj1" fmla="val 96143"/>
              <a:gd name="adj2" fmla="val 104152"/>
            </a:avLst>
          </a:prstGeom>
          <a:solidFill>
            <a:srgbClr val="b3b3b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easures – Central Ban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60360" y="2160720"/>
            <a:ext cx="8209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nd 2008 – relaxed some constraints to increase liquidity – targeted to public secto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arly 2009 – increased regulatory burde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ntrolled exchange rate and liquid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eclared that exchange rate stability is priority, opening pressures on interest rat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7182000" y="5759280"/>
            <a:ext cx="1817640" cy="971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easures – Governmen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31640" y="1440000"/>
            <a:ext cx="838836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alls on government since October 2008 to make decisive mov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nnounced 10 “Anti-Recession Measures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balanced the budget – March 2009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oo little too late – (local elections?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untry rating slightly decreas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ssued 750 mil € bonds in Ma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182000" y="5759280"/>
            <a:ext cx="1817640" cy="971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7160" y="764640"/>
            <a:ext cx="8637480" cy="67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roatian Bank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9280" y="2160360"/>
            <a:ext cx="820908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Unlike some other countries – banks helped government – 2,8 bln €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o squeezing out of private sector (still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asonable credit activit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aising interest rat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isks lie in real secto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roatian Banking Associa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8680" y="2085480"/>
            <a:ext cx="82087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xtremely active ro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xtensive media coverag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ost questions to banks ended up with u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ordinating respons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ublished analyses, outlook, viewpoin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o far, maintained positive ro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17160" y="764640"/>
            <a:ext cx="8637480" cy="67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BA in Media (from January 1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8680" y="1941120"/>
            <a:ext cx="82087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ore presence in newspapers, TV and radio, web portals than entire 2008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ewspapers 281 - “value” close to €500K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V 87 presences - “value” close to €2,500K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adio 76, additional web portals 39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edia classification – 99% “neutral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7160" y="764640"/>
            <a:ext cx="8637480" cy="67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GDP Growth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1844640"/>
            <a:ext cx="395928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at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16360" y="1844640"/>
            <a:ext cx="395928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er countr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35640" y="5157720"/>
            <a:ext cx="356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a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verage rate, 199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8 – 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200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Sources: Eurostat, CB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5157720"/>
            <a:ext cx="396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he data until 2006 are harmonised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ith final annual calculation of the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GDP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B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57200" y="2611440"/>
            <a:ext cx="4038480" cy="2506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648320" y="2610000"/>
            <a:ext cx="4038480" cy="25095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3419640" y="5040360"/>
            <a:ext cx="1960560" cy="17384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Infla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419640" y="179280"/>
            <a:ext cx="2160360" cy="2311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68360" y="1844640"/>
            <a:ext cx="395928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at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16360" y="1844640"/>
            <a:ext cx="395928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er countr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5157720"/>
            <a:ext cx="396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CPI inflation (1996-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1998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 RPI inflation) and core inflation, end of period, year-on-year rate of chan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57200" y="2575080"/>
            <a:ext cx="4038480" cy="25794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4648320" y="2617920"/>
            <a:ext cx="4038480" cy="24937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716360" y="5157720"/>
            <a:ext cx="3961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end of period, year-on-year rate of chan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Inflation in Croatia and Turkey is measured by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nsumer price index, and in the other selected countries by harmonized index of consumer prices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s: CBS, Eurostat and central banks' web sit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Intl Reserves and Deposit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80360" y="287280"/>
            <a:ext cx="1511280" cy="1511280"/>
          </a:xfrm>
          <a:prstGeom prst="wedgeEllipseCallout">
            <a:avLst>
              <a:gd name="adj1" fmla="val -40550"/>
              <a:gd name="adj2" fmla="val 62254"/>
            </a:avLst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OO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319640" y="1979640"/>
            <a:ext cx="4319640" cy="3419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39640" y="1827360"/>
            <a:ext cx="3159360" cy="4113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oan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01680" y="1814400"/>
            <a:ext cx="8339040" cy="3584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urrent Account and Foreign Deb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08720" y="1979640"/>
            <a:ext cx="1511280" cy="1260360"/>
          </a:xfrm>
          <a:prstGeom prst="wedgeEllipseCallout">
            <a:avLst>
              <a:gd name="adj1" fmla="val -31199"/>
              <a:gd name="adj2" fmla="val 64962"/>
            </a:avLst>
          </a:prstGeom>
          <a:solidFill>
            <a:srgbClr val="b3b3b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79280" y="1611360"/>
            <a:ext cx="4934160" cy="51688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256360" y="3749760"/>
            <a:ext cx="3744720" cy="23716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nks' Assets – Exchange Rat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2160720"/>
            <a:ext cx="5164200" cy="3240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5580000" y="1673280"/>
            <a:ext cx="3195720" cy="4086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nks' Loan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76320" y="1800360"/>
            <a:ext cx="6043320" cy="1800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39640" y="3780000"/>
            <a:ext cx="2490840" cy="1422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504720" y="5222880"/>
            <a:ext cx="2554560" cy="1436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3240000" y="4859280"/>
            <a:ext cx="5751720" cy="13003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6480000" y="3060720"/>
            <a:ext cx="2340000" cy="1547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apital Adequac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03280" y="1628640"/>
            <a:ext cx="594036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gulatory capital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tal exposure to risk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72360" y="720720"/>
            <a:ext cx="1871640" cy="1763640"/>
          </a:xfrm>
          <a:prstGeom prst="wedgeEllipseCallout">
            <a:avLst>
              <a:gd name="adj1" fmla="val -2124"/>
              <a:gd name="adj2" fmla="val 32125"/>
            </a:avLst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VER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OO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332000" y="2217600"/>
            <a:ext cx="6192720" cy="3908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11:39:33Z</dcterms:created>
  <dc:creator>Zoran Bohaček</dc:creator>
  <dc:description/>
  <dc:language>en-US</dc:language>
  <cp:lastModifiedBy>Zoran Bohacek</cp:lastModifiedBy>
  <cp:lastPrinted>2009-06-16T13:41:08Z</cp:lastPrinted>
  <dcterms:modified xsi:type="dcterms:W3CDTF">2009-06-16T13:55:16Z</dcterms:modified>
  <cp:revision>70</cp:revision>
  <dc:subject/>
  <dc:title>KREDITNI REGISTAR KAO INSTITUCIJA RAZVIJENOG FINANCIJSKOG TRŽIŠ</dc:title>
</cp:coreProperties>
</file>